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F08-BADE-4824-B1A8-BE40723D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9C8-2571-4B33-8F08-55ECEF4F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7BB-7091-4923-9E9E-9AF23D4F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E08-9FA5-45AC-8E14-71E71392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4CBD-B4C1-4A59-A33B-806DB5BF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6E65-8904-4F35-997E-BAAB350E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0C1C-5842-474A-B679-ADE74615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5F48-E94A-40DF-A13B-5893FF04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ECCB-4B03-4E6E-B8FF-A76F02FD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78A2-8FE6-42BB-8F01-D2DF5953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E47C-21EB-46AE-A99C-7B885DA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303-E312-4237-8C53-DBC6C7AA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94A2-FB8B-45B5-BFBE-B02115AD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AFDB-DDB3-45A7-8155-828675D0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10CB-FDE6-4FA2-8D84-904BED33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8A5F-B5A1-4D3D-96A2-1ECED71C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65BE-B33E-4481-96D0-7981CBC4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B8C-FDF6-4A90-8E07-9097F01C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B7A-D6B0-4387-9F8F-A7B505D9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F4A-455F-4D51-8999-DBD06080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C2F-2CC8-418B-8FC1-9752CC2F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B98-AAE1-40E6-A9AC-A5CD434C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79B-D6CA-4080-95B0-76726D9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9A3-951C-4723-A55A-EBECDF3B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BCC2-79DA-4674-BBAA-6EE8A6B0F1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9823-5028-43F5-B841-0BCB08132E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Use for Stu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computer to talk to your friends is cool.  Exploring Web sites makes school work more fu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st as there are rules in your classroom, in the Science lab, at home, and for crossing the street safely, there are rules for using computers, programs and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may also build their own curriculum-related webp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the abundance of new social media tools available to student:                                            wikis and blogs student products and documents have the potential to reach an audience far beyond the classroo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should request help in evaluating the credibility of the information and recognizing inappropriate cont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s brings new levels of responsibility and accountability for everyo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37160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th Supervis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M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support the educational goals and objectives of RRIS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educationally relev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supervised by adults at all ti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may not type their own or others name, address, phone number or other personal information into any place on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y not use another person’s ID number or passwor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y not upload programs to or download programs from the Intern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who do not follow the guidelines will face disciplinary action, such as loss of computer privileg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contribute to class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use teacher- designed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y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teacher-selected web pages with staff supervision-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rowse means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P-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fer to the matrix with specific guidelines for student use of the Internet found posted in the lab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ach teacher also has a copy and will be carefully monitoring the content produc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heck with your ITS or Librarian if there are ques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nsure all information is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ppropri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evan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i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should get facts, not opinions or propaganda (unless your directions specifically ask for these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achers can assist students in accessing appropriate information from the intern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105allena</cp:lastModifiedBy>
  <dcterms:modified xsi:type="dcterms:W3CDTF">2009-08-24T20:52:51Z</dcterms:modified>
  <cp:revision>24</cp:revision>
  <dc:subject/>
  <dc:title>Student Internet Use</dc:title>
</cp:coreProperties>
</file>